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C2D-D46B-4364-B6F5-E5F46D8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F6B-F85C-4329-A6F1-E9DB14C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A72-7EDE-4F0B-B137-4A65DD2D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281-819E-4C54-AC49-61D2774B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AC6-D4C4-40BC-BAD5-FE49B90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286-D88C-44E6-9546-1037643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6CA-98CB-43CF-9AE3-C391251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326-FB7C-4FBA-8038-EE0365F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9FE-8861-4D49-ABE7-E744973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93D-14A4-47F2-BD18-F6174DE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A5F-54AA-47EE-B598-6ED2BCC0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87C-7751-4C74-A181-CCFF59C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14E-ADC3-4ABF-B4B9-EB68D574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d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dark ages the city-state eme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loponn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Messenia in 725 B.C. and took Messenians as slaves (Hel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ots revolted and almost over-threw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Milit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army for over 300 years, but 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d DUTY, STRENGTH, DISCIPLINE, over beauty or freedom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had every right but the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on’s Reform for 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civil war due to Aristocratic rule and farmers unhappiness, Greeks gave full power to Solon to reform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de Economic &amp; Politi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ale citizens attend assembly and matters decided by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citizen could bring a charge against another citizen, even if crime had been committed against a slave– Revolutiona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debt and freed slaves of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farming profitable through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isthenes Conti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8 B.C., he continued reforms to make Athens a full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Council of Five Hund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o complete democracy EXCEPT only 20% were actually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men played LITTLE role in Ath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ersian_wars"/>
          <p:cNvPicPr/>
          <p:nvPr/>
        </p:nvPicPr>
        <p:blipFill>
          <a:blip r:embed="rId1"/>
          <a:stretch/>
        </p:blipFill>
        <p:spPr>
          <a:xfrm>
            <a:off x="1665360" y="1600200"/>
            <a:ext cx="581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nva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Darius of Per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s beat Persians and 26 mile Marathon (to Athens) run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80932690_3d4efa0126"/>
          <p:cNvPicPr/>
          <p:nvPr/>
        </p:nvPicPr>
        <p:blipFill>
          <a:blip r:embed="rId1"/>
          <a:stretch/>
        </p:blipFill>
        <p:spPr>
          <a:xfrm>
            <a:off x="4800600" y="3809880"/>
            <a:ext cx="365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by Xerxes (Darius’ 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tans fight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Thermopylae (hot g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down Ath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l battle at the Gulf of Sal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xes loses- Persian threat destroy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48_Original_300_Spartans_poster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sults of Per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an Le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enian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ve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Athens Golden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league_map"/>
          <p:cNvPicPr/>
          <p:nvPr/>
        </p:nvPicPr>
        <p:blipFill>
          <a:blip r:embed="rId1"/>
          <a:stretch/>
        </p:blipFill>
        <p:spPr>
          <a:xfrm>
            <a:off x="3962520" y="1523880"/>
            <a:ext cx="48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cropolis - Restored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 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ults were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s was CENTRAL in Greek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-&gt; free + rational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ebate– No empe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YOURSEL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c discussions were held at Ag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citizenry to be b/w 5-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cracy &amp; Ty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tocracy-&gt; E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group of people who regularly maintain power w/in their small group of friends/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HAVE AN ARISTOCRACY IN AMER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eek Aristocracy maintain their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han political power, what power did they poss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rants-? Take over- WE NEED CHANGE IN GREECE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or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reform a positive thing and when is it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l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 of iron, a new type of army arose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citizen was expected to fight for their 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a sword i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and shield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kwalitee-hoplite-red"/>
          <p:cNvPicPr/>
          <p:nvPr/>
        </p:nvPicPr>
        <p:blipFill>
          <a:blip r:embed="rId1"/>
          <a:stretch/>
        </p:blipFill>
        <p:spPr>
          <a:xfrm>
            <a:off x="5562720" y="2590920"/>
            <a:ext cx="2381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61-athens-map-1000"/>
          <p:cNvPicPr/>
          <p:nvPr/>
        </p:nvPicPr>
        <p:blipFill>
          <a:blip r:embed="rId1"/>
          <a:stretch/>
        </p:blipFill>
        <p:spPr>
          <a:xfrm>
            <a:off x="762120" y="0"/>
            <a:ext cx="7470720" cy="6518160"/>
          </a:xfrm>
          <a:prstGeom prst="rect">
            <a:avLst/>
          </a:prstGeom>
          <a:ln w="0">
            <a:noFill/>
          </a:ln>
        </p:spPr>
      </p:pic>
      <p:sp>
        <p:nvSpPr>
          <p:cNvPr id="56" name="Oval 7"/>
          <p:cNvSpPr/>
          <p:nvPr/>
        </p:nvSpPr>
        <p:spPr>
          <a:xfrm>
            <a:off x="3048120" y="4343400"/>
            <a:ext cx="9144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838080" y="472392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343400" y="3429000"/>
            <a:ext cx="7621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4647960" y="3962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la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halanx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complete opposite of 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D-&gt; education and freedom of the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 -&gt; democracy because of Solon and Cleisthenes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6:12:21Z</dcterms:created>
  <dc:creator>Darien Public Schools</dc:creator>
  <dc:description/>
  <dc:language>en-US</dc:language>
  <cp:lastModifiedBy>Local User</cp:lastModifiedBy>
  <dcterms:modified xsi:type="dcterms:W3CDTF">2013-09-03T17:29:34Z</dcterms:modified>
  <cp:revision>11</cp:revision>
  <dc:subject/>
  <dc:title>Slide 1</dc:title>
</cp:coreProperties>
</file>